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4D4-9F04-4208-AD5A-26D63DC9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402-67D4-41D9-BE2C-C2CE6E65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646-E4C0-4026-BD3F-5DE39A1D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586-980D-4957-A5BA-A8F2F941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E2E2-F206-4F9D-8C95-954F34BD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08953-F937-441F-AF79-25DD6B4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59F5-473B-454F-A9D4-073A9273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B51D7-1BDB-4698-BCB6-7BBFDA2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3C148-C723-489C-9164-B2094AB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31B1C-A4E2-4E18-B8E9-0EEED6DF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73D98-09D5-4261-BB6B-0AC2BC5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B4A-557D-4ED1-86BB-415D36E2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92FB7-AD93-4524-8A48-6265147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7F4F7-6506-4215-BDAD-3555E94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66EF7-57B0-4D77-97D2-3CAE459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9A68-4CE0-43B2-AF0C-E0AD98F5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39436-B1E4-400F-A684-5D527FD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BB477-0169-440C-B342-6BB6BBA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98BF-AB87-440B-892D-FD0BE019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E4F1-D606-4849-B4D0-7B87F39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E9DB-7246-4FF1-BD85-F7FFB0A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74A9-E34D-4764-A907-6321D3D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2BE-0931-47B1-A3F1-F5FB4A6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B20A-6930-4B97-A0CB-2E84C58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B342-8BA0-4490-9A0C-D6A1837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90BB-21D7-478B-BEDD-E8B9655C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A3C1-347A-4B2D-8BB9-0203EC3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0E76-C2FB-4558-8BFB-D32AC66A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6962-8DE7-4307-9157-CE7C4FD7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50A89-FEB0-4E9A-B8E4-07777C28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185D-E0AC-46F2-80DD-84999785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43CF-8C70-4866-9B1B-EFBFA5B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3F528-BB25-4293-9889-BAED318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436-B3DD-4860-BFD8-E8A32BCC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D6F9-5A5A-4D78-B203-0FF3131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3491-1ECE-43DF-863D-91CEF51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F1A9-E87E-46AA-A57D-6367CA2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0FBA-B22F-4003-A790-37307D5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3603-D234-4FA7-81D8-E24B90F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3706-272C-4279-8062-85E5460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E829-E83B-4476-A07D-311BC6BD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3252-F2FF-4371-A602-7646B8CB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85EB-A5C5-4357-9B1E-5978C9E2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87B0-742E-4FC6-909A-C63B0184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77D-84AB-4F19-8FA8-3CBA2FAC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BC41-ABAC-414C-B009-7A1F61EC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6A0DB-94D8-4A18-99A2-AF75E5D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0508-D899-4D47-93BF-CDA19EB4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468D-1DC9-4B4C-A3E0-1FBDF53E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D748-993A-4E8B-B9CF-1233E55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92431-39FC-4819-8E3D-C2060542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744A7-3DB1-4F78-BF5B-A3493BF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5DB0-E51A-41DF-820C-DEC264C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C1E5-F4F0-469B-86E6-419848A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14D54-B385-40CE-BB6E-7E84610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822-5F20-4CF7-A820-3597029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5250-FE2B-4F34-BFEC-12D69BF7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49D2-2768-45A0-9888-999B54F2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98C9-BF77-4FB4-8DEB-D3AEDC33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D631-9CDE-4415-94BE-088E844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E95E8-42DB-4CD6-8831-5FBB58A1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38E74-5D80-4270-854F-5826B44E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328A-ED6F-4B09-A9C1-A38EC13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4AFAD-424E-4DDF-B132-5269EB19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53C77-DC4E-4931-9904-B12F210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DBFB-53CE-48E9-9C05-9182764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08D-FC6D-4BDE-98A1-8F9155E2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6BCFF-8EF2-46AC-B188-7761A7D1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8FA3-42B5-4FEF-A0A2-E9C8D8A6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BC25-0E30-4036-B14D-7F774A76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96E1-274C-4CEC-B7E1-D867BB8B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ACE3-5D3D-477D-A3AA-971C409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C7CA-E85D-44E5-A6BC-1467FEE6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C87D-6E89-48EF-9BB0-21E0A0B9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7F5B0-1E8C-469B-8EE4-873B0BCB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1DE3-50C4-4974-9C07-9F0C944D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A965-E8A4-4264-AD70-34C2030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3E6-7EF5-4B06-BD8C-E729CA7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35E9-8DEA-461D-8920-8E5346C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B094-6259-415F-AE24-D2A0E39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025C-D0AB-4E89-8F01-0038FE05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ACDA8-230E-44AB-B829-0C4B4258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A540B-435F-4995-8F17-21E09424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B5271-4485-4589-9695-DBE5E56D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E63C6-B4DD-4686-9F13-936AFD09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34773B-0793-407A-802D-709FBF22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1C7A2-16F9-434E-9B6F-BE81D79E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AB5C0-2311-4372-B532-3C1CE70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3F3-B115-4D2A-B26A-102AF980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BCD24-34A2-473C-B8B1-EB28EDB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994E4-5996-4A71-BE84-97F1282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A3C72-845E-494F-A10E-F0F10F6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2C24F1-5AE6-4CE3-B246-1F982E0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459CF9-8CCD-439F-A369-6F2F9934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1947B-A61F-44B4-AACB-9BA9EC79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FC6B1-2492-48A2-9B95-27BB3D70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b0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ba7c3e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888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787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3DD-8596-4AE9-88A7-16518F263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b0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f2f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ba7c3e"/>
              </a:gs>
              <a:gs pos="100000">
                <a:srgbClr val="00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888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7877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DC0-94D9-41E7-B874-28401C179A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E20F-9BCC-46FC-9A1E-70144A3A3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1ED-251D-420F-9382-98CFBF55C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A5C-AA0B-40CC-B10D-1E6D25987E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662-85B4-4C09-8868-BEF5448055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579-4F98-4C5D-A782-7A9C3E6D0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D49-AFC2-4890-B03E-F58F0D85E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Argentina Aventur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Jack W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79440" y="4608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352680" y="4038480"/>
            <a:ext cx="2438640" cy="195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962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Len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o Krist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 vis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 hotel en Las Lenas. Es una la estacion de esqui. Es muy bonita. Mi hotel es muy grande y eleg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04920" y="480060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2743200" cy="1952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6400800" y="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33520" y="0"/>
            <a:ext cx="2447640" cy="18669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3276720" y="4826160"/>
            <a:ext cx="251460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entro Commercial La P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ámi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Hoy fui al Centro Commercial L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ámide. El Centro Commercial L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ahoma"/>
              </a:rPr>
              <a:t>ámide es interesante. Yo compré el equipo de esqui. Fue diverti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865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us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fui al museo. El museo es muy interesante. Hay muchas pinturas. Fue muy divertido. Ne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 hoy, y mucho f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80988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qu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yo fui a esquiar. Fue mi primera vez. Yo ba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la pista. Lo fue diversíon. Llego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quipos de esqu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 Cin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yo fue a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taurant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Yo como mucho. N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oy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ino en la niev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 nieve era herm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191120" cy="314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Le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viaje de esquí fue muy divertido. P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un buen tiemp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io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ris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5:11Z</dcterms:created>
  <dc:creator>wicejoh</dc:creator>
  <dc:description/>
  <dc:language>en-US</dc:language>
  <cp:lastModifiedBy>wicejoh</cp:lastModifiedBy>
  <dcterms:modified xsi:type="dcterms:W3CDTF">2011-11-30T17:04:10Z</dcterms:modified>
  <cp:revision>10</cp:revision>
  <dc:subject/>
  <dc:title>Argentina Aventura</dc:title>
</cp:coreProperties>
</file>